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8543"/>
        <c:axId val="10317679"/>
      </c:barChart>
      <c:catAx>
        <c:axId val="5628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17679"/>
        <c:crosses val="autoZero"/>
        <c:auto val="1"/>
        <c:lblAlgn val="ctr"/>
        <c:lblOffset val="100"/>
        <c:noMultiLvlLbl val="0"/>
      </c:catAx>
      <c:valAx>
        <c:axId val="103176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8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F46E-C119-48A7-AED1-C7A4E7970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A63-A4DF-4027-ABDC-BF1F8D54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75D-F8F8-4737-BA05-B5C7BEA7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CD1-DD26-42F9-BBA3-0691BF385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2E6-071C-4C7F-8149-503F8391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783B-1053-4A0F-95F8-ABBA0775E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96A-A008-461B-8FC0-014DD90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BA3A-58A7-4F50-98C8-284D7C40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FFF9-56B6-4D0E-A6D7-304F7BEC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870D-C1B2-473C-B22A-9F7D79A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42D3-E0FF-475A-BFB4-CD5996C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8749-7663-49C7-80E4-5B751C5A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58BB4-46B4-4778-A99F-D0AEB4A464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