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49289"/>
        <c:axId val="8064588"/>
      </c:barChart>
      <c:catAx>
        <c:axId val="24249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4588"/>
        <c:crosses val="autoZero"/>
        <c:auto val="1"/>
        <c:lblAlgn val="ctr"/>
        <c:lblOffset val="100"/>
        <c:noMultiLvlLbl val="0"/>
      </c:catAx>
      <c:valAx>
        <c:axId val="8064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49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4207-F197-4498-8B7B-17A30407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AE4-7653-4307-9A28-3FA7F3B1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63D0-DFDF-404E-891A-60021546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303-DDDF-4C3B-BE1F-634F3A12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F232-544A-4AE9-B732-0EDED8FA6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559-34EB-4B8C-AB5D-36E69E4E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91A4-7B55-4117-99A1-27EDB583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D53-6833-462B-BB62-CF9CC607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3F28-9E47-4EBC-9AEE-90A54229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7F83-7301-4690-986F-7C449800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8C37-E8E2-4197-B6F1-1F9228D2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3A10-1435-41DD-9F14-A4D679B7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36E2D5-5DF6-47B4-A988-2086812AA6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