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63725"/>
        <c:axId val="80769285"/>
      </c:barChart>
      <c:catAx>
        <c:axId val="62163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69285"/>
        <c:crosses val="autoZero"/>
        <c:auto val="1"/>
        <c:lblAlgn val="ctr"/>
        <c:lblOffset val="100"/>
        <c:noMultiLvlLbl val="0"/>
      </c:catAx>
      <c:valAx>
        <c:axId val="80769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63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03B-C088-471D-B4F9-481A112A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E6B-AA27-460B-B73A-1F01EFD4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643-A605-4B7B-9E02-34D4E7AB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522-E750-4933-A321-235C329F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6A9-1D26-4B80-8A56-96065AA1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E14-2B8B-4CC4-8B15-D1864F62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418-0EA0-4AAA-8415-3805E840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0A5-944C-4148-BD6A-137E2FB1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8C2-5B92-4EA5-9789-29BBF1E2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F93-61FC-4229-9432-A35B9B9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2C9-4959-4B35-B23E-70C02898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8D0-49CD-4208-AB67-B0BFE7E8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EADFB-4BAE-470B-B63E-7B4233C520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